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539-A1FA-4189-AE0F-6D50CBC5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0AC-948C-492B-B03A-986B0246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2F5-CFCE-4668-8A51-051645A5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FA8-C3C2-4F82-9A74-198CE01D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3D5-A1B1-46BB-844F-61A404F0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781-D2ED-4B5D-808F-46059CDB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8B8-AE45-444A-AA7B-3781083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337-29C2-4EFD-9661-080ADBE6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788-023F-47CF-8120-3309D8E9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599-2B29-4E02-8584-EEAEBBC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83E-0152-4402-845F-CE8C0A7D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29C-142A-4208-BF63-7473F126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1170-77A1-44BA-9263-AAE9CB6DE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5949720"/>
            <a:ext cx="680076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4967280" cy="20876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71640" y="3357720"/>
            <a:ext cx="2808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1341360"/>
            <a:ext cx="23050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iguralSmallCapsPlain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834600">
            <a:off x="826560" y="620280"/>
            <a:ext cx="2592720" cy="1079640"/>
          </a:xfrm>
          <a:prstGeom prst="rightArrow">
            <a:avLst>
              <a:gd name="adj1" fmla="val 50000"/>
              <a:gd name="adj2" fmla="val 60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iguralSmallCapsPlain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iguralSmallCapsPlain"/>
              </a:rPr>
              <a:t>mezzi 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510400">
            <a:off x="611280" y="2133360"/>
            <a:ext cx="3097080" cy="1368360"/>
          </a:xfrm>
          <a:prstGeom prst="rightArrow">
            <a:avLst>
              <a:gd name="adj1" fmla="val 50000"/>
              <a:gd name="adj2" fmla="val 5658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iguralSmallCapsPlai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iguralSmallCapsPlain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iguralSmallCapsPlain"/>
              </a:rPr>
              <a:t>MEZZI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516720" y="1844640"/>
            <a:ext cx="71280" cy="7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341360"/>
            <a:ext cx="1800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STILI DI VIT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SIM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2133720"/>
            <a:ext cx="201600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lib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CIRCOL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DI MER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3573360"/>
            <a:ext cx="2089080" cy="935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iguralSmallCapsPlain"/>
              </a:rPr>
              <a:t>LIB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iguralSmallCapsPlain"/>
              </a:rPr>
              <a:t>CIRCOLA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iguralSmallCapsPlain"/>
              </a:rPr>
              <a:t>DI PERS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2565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27664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773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0000" y="3789360"/>
            <a:ext cx="865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4365720"/>
            <a:ext cx="194472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iguralSmallCapsPlain"/>
              </a:rPr>
              <a:t>Immig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iguralSmallCapsPlain"/>
              </a:rPr>
              <a:t>Cit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iguralSmallCapsPlain"/>
              </a:rPr>
              <a:t>Multicul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30Z</dcterms:created>
  <dc:creator>studente</dc:creator>
  <dc:description/>
  <dc:language>en-US</dc:language>
  <cp:lastModifiedBy>studente</cp:lastModifiedBy>
  <dcterms:modified xsi:type="dcterms:W3CDTF">2016-11-21T09:09:09Z</dcterms:modified>
  <cp:revision>5</cp:revision>
  <dc:subject/>
  <dc:title>Diapositiva 1</dc:title>
</cp:coreProperties>
</file>